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D79-CE49-4C0D-BBE2-54867F6F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D0A-DC63-4864-90A6-1CFF266A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701-05DD-4AB7-B0CB-352F4A89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BA4-8946-4BC9-9217-D949ABDD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CB3-E3F5-4D45-989A-1980ED13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1A6-80D2-4E53-94A6-8BB6A531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6EC-7FDB-4098-BA0E-2A6EB9CA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97E-F303-412D-A4F8-0D8D7FD9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15A0-8BF4-498D-8233-BBCC5D0B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870-80C0-4905-AD62-B1A5E62A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AB1-0045-4B38-8855-EDEFE54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C60-83F7-45B8-A9C5-498C2AE5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81E3-CA6E-462B-962B-D48BE1280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igitalegypt.ucl.ac.uk/maps/egypt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62120" y="60948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ll Ringer:  10-1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y  do you believe the idea of all the gods were so important in ancient Egypt and wh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838080" y="8380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A powerful king named Sundiata ruled this area from around 1230-1255 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kingmaligoldad1375"/>
          <p:cNvPicPr/>
          <p:nvPr/>
        </p:nvPicPr>
        <p:blipFill>
          <a:blip r:embed="rId1"/>
          <a:stretch/>
        </p:blipFill>
        <p:spPr>
          <a:xfrm>
            <a:off x="4038480" y="2666880"/>
            <a:ext cx="4114800" cy="3130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685800" y="327672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The greatest king of Mali was Mansa Musa (1312-1337). He developed the gold and salt trade of Mali and his kingdom became very powerful and ri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200400" y="60958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nsu Musa: Lord of the Negroes of Guine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hoto courtesy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istory of Afric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77920" y="76212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 Sans MS"/>
              </a:rPr>
              <a:t>In 1324 Mansa Musa made a pilgrimage ( a journey to a holy place) with 60,000 servants and followers and 80 camels carrying more than 4,000 pounds of gold to be distributed among the po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mansamusag"/>
          <p:cNvPicPr/>
          <p:nvPr/>
        </p:nvPicPr>
        <p:blipFill>
          <a:blip r:embed="rId1"/>
          <a:stretch/>
        </p:blipFill>
        <p:spPr>
          <a:xfrm>
            <a:off x="1371600" y="3352680"/>
            <a:ext cx="1947960" cy="2457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37600" y="6324480"/>
            <a:ext cx="411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seleck.bei.t-online.de/timbuktu/img_tim/mansamusa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04920" y="457200"/>
            <a:ext cx="861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G 29: Bla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g 30: kingdoms of Africa fold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g 31-32: You be the teac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30" descr="The main mosque at Jenne"/>
          <p:cNvPicPr/>
          <p:nvPr/>
        </p:nvPicPr>
        <p:blipFill>
          <a:blip r:embed="rId1"/>
          <a:srcRect l="7559" t="0" r="0" b="6056"/>
          <a:stretch/>
        </p:blipFill>
        <p:spPr>
          <a:xfrm>
            <a:off x="533520" y="1752480"/>
            <a:ext cx="221760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WordArt 1028"/>
          <p:cNvSpPr txBox="1"/>
          <p:nvPr/>
        </p:nvSpPr>
        <p:spPr>
          <a:xfrm>
            <a:off x="1600200" y="2057400"/>
            <a:ext cx="61722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2d2db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HANA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2d2db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niger_river"/>
          <p:cNvPicPr/>
          <p:nvPr/>
        </p:nvPicPr>
        <p:blipFill>
          <a:blip r:embed="rId1"/>
          <a:stretch/>
        </p:blipFill>
        <p:spPr>
          <a:xfrm>
            <a:off x="380880" y="2133720"/>
            <a:ext cx="5496120" cy="3752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419720" y="533520"/>
            <a:ext cx="4267080" cy="4839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hana developed in West Africa between the Niger and the Gambia Rivers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bout AD300 to about 110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 rivers helped Ghana to grow rich because they were used to transport goods and develop trade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hana also collected taxes from traders who passed through the kingdom. The people called their nation Wagadu; we know it as Ghana --that was the word for war chief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52280" y="63244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nevadasurveyor.com/africa/web/pages/niger_rive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57200" y="1066680"/>
            <a:ext cx="4952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kingdom of Ghana probably began when several clans of the Soninke people of west Africa came together under the leadership of a great king named Dinga Ciss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hana had few natural resources except salt and gold. They were also very good at making things from iron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hanaian warriors used iron tipped spears to subdue their neighbors, who fought with weapons made of stone, bone, and w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stack of gold bars"/>
          <p:cNvPicPr/>
          <p:nvPr/>
        </p:nvPicPr>
        <p:blipFill>
          <a:blip r:embed="rId1"/>
          <a:stretch/>
        </p:blipFill>
        <p:spPr>
          <a:xfrm>
            <a:off x="5029200" y="1523880"/>
            <a:ext cx="3549600" cy="358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"/>
          <p:cNvSpPr/>
          <p:nvPr/>
        </p:nvSpPr>
        <p:spPr>
          <a:xfrm>
            <a:off x="5105520" y="6248520"/>
            <a:ext cx="365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imf.org/external/np/exr/center/mm/eng/mm_rs_01.ht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AN01151_"/>
          <p:cNvPicPr/>
          <p:nvPr/>
        </p:nvPicPr>
        <p:blipFill>
          <a:blip r:embed="rId1"/>
          <a:stretch/>
        </p:blipFill>
        <p:spPr>
          <a:xfrm>
            <a:off x="914400" y="914400"/>
            <a:ext cx="1424160" cy="392112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1981080" y="1600200"/>
            <a:ext cx="601992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ubia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 of Egyp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8600"/>
            <a:ext cx="2990880" cy="6286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648320" y="1523880"/>
            <a:ext cx="358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ubia grew along the Nile River south of Egypt. They shared many of the same cultural traits as Egypt such as religion, architecture and art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920" y="65833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digitalegypt.ucl.ac.uk/maps/egyp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31"/>
          <p:cNvSpPr/>
          <p:nvPr/>
        </p:nvSpPr>
        <p:spPr>
          <a:xfrm>
            <a:off x="457200" y="533520"/>
            <a:ext cx="472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ncient Nubia was a great kingdom that produced many resources like gold, ivory, copper, frankincense and ebo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2"/>
          <p:cNvSpPr/>
          <p:nvPr/>
        </p:nvSpPr>
        <p:spPr>
          <a:xfrm>
            <a:off x="533520" y="2209680"/>
            <a:ext cx="449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bia was also known as Kush and The Land of the Bow.  Nubian archers (warriors who used a bow and arrow) were feared by all who saw them in batt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3"/>
          <p:cNvSpPr/>
          <p:nvPr/>
        </p:nvSpPr>
        <p:spPr>
          <a:xfrm>
            <a:off x="609480" y="4267080"/>
            <a:ext cx="44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From about 2,000 to 1,000 BC, Egypt ruled Nubia.  Nubia came north and conquered Egypt (800-700 B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4"/>
          <p:cNvSpPr/>
          <p:nvPr/>
        </p:nvSpPr>
        <p:spPr>
          <a:xfrm>
            <a:off x="7238880" y="62485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035"/>
          <p:cNvSpPr/>
          <p:nvPr/>
        </p:nvSpPr>
        <p:spPr>
          <a:xfrm>
            <a:off x="3429000" y="6324480"/>
            <a:ext cx="380988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Frankincense%20trae%20i%20oerkenen"/>
          <p:cNvPicPr/>
          <p:nvPr/>
        </p:nvPicPr>
        <p:blipFill>
          <a:blip r:embed="rId2"/>
          <a:srcRect l="0" t="0" r="25371" b="0"/>
          <a:stretch/>
        </p:blipFill>
        <p:spPr>
          <a:xfrm>
            <a:off x="5181480" y="1295280"/>
            <a:ext cx="3429000" cy="3337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5410080" y="464832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ankincense tree. The resin was used to make good smelling inc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4724280" y="661356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ww.webzone.dk/oman/ oman/dyr-og-planter.h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mosque"/>
          <p:cNvPicPr/>
          <p:nvPr/>
        </p:nvPicPr>
        <p:blipFill>
          <a:blip r:embed="rId1"/>
          <a:srcRect l="0" t="0" r="0" b="9018"/>
          <a:stretch/>
        </p:blipFill>
        <p:spPr>
          <a:xfrm>
            <a:off x="1066680" y="91440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WordArt 4"/>
          <p:cNvSpPr txBox="1"/>
          <p:nvPr/>
        </p:nvSpPr>
        <p:spPr>
          <a:xfrm>
            <a:off x="2666880" y="1523880"/>
            <a:ext cx="44197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ali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28600" y="6172200"/>
            <a:ext cx="281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ttp://www.btsadventures.com/img/mosque.j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20:55:21Z</dcterms:created>
  <dc:creator>khorrock</dc:creator>
  <dc:description/>
  <dc:language>en-US</dc:language>
  <cp:lastModifiedBy>Tyler Daughtry</cp:lastModifiedBy>
  <dcterms:modified xsi:type="dcterms:W3CDTF">2013-10-17T13:21:48Z</dcterms:modified>
  <cp:revision>217</cp:revision>
  <dc:subject/>
  <dc:title>PowerPoint Presentation</dc:title>
</cp:coreProperties>
</file>